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380-CD7E-4EB2-93E0-E13F0EE4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08B-0A74-4FB5-B0AF-E02AD6FB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C6A-9308-42C5-8EAB-308A3E96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4DA-0239-45FD-BC8C-7B386823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5D26-4156-40CD-8D6E-F8E58A1A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4C6B-F7D3-4F81-84D9-4EE28D31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C92F-EAC6-4D61-9663-E1A6A6C2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CD43-68E5-4EB4-9CE9-34A90146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A39D-5DDF-40DE-AFDE-4AEDBC60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EE32-43E8-495F-9289-6A5E312A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C9D2-A5CA-4202-B5A3-A3894EE7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112-55D3-4E31-9E7A-B9750708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EFE3-E1BC-4948-AEED-78A8C9FE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8A36-D01F-4407-B494-A2933BD0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B07E-9046-46E0-814E-44D668A8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B62E-BD66-453F-915A-1C6C15C0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6922-E52E-46C1-90B6-FCA8CA21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846-CAF1-43AE-924A-F573321E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963-9459-45A4-B74A-9D05366D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BD2-5375-4D5E-933B-81C212DB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246-2DB8-4853-8289-24CF028F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27C-4699-4944-8F98-36D41508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4B1-9A7C-4CB1-A3A8-FEDC768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788-A08F-4406-BC1A-6FB1394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BE83-5153-4EF5-A184-E5058FFD7D0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5852-A77C-4843-89E0-3FEDBB521E1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SCOLA ESTADUAL DR. MARTINHO MARQUE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ório do Projeto: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MSN COMO FERRAMENTA DE ESCRITA E LEITUR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Na aula seguinte os alunos chegaram e a maioria abriram os seus MSN e começaram a conversar entre sim, até que os alunos de Nova Andradina entrassem no MSN. Apesar da gente não ter definido tema nessa aula os alunos de Taquarussu e Nova Andradina conversaram basicamente sobre o mesmo assunto; “Festa Junina”. Um perguntava, ou contava quando seria a festa da sua escola, e o que teria, se eles iam dançar quadrilha? E também o que era de merenda? E ainda mais, os alunos de Nova Andradina disseram que ia ter pipoca na merenda deles. Em seguida os alunos de Nova Andradina falaram que iam merendar e não voltaram mais. Os alunos de Taquarussu ficaram um tanto decepcionados, mas interferi e falei para que eles conversassem entre si. E assim o fizeram.</a:t>
            </a: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Nesse momento uma aluna teve a brilhante idéia de ligar para seu irmão que mora em Corumbá para saber se ele estava no computador e passou o seu endereço, ele a adicionou e começou a conversar com ela, as demais alunas queriam saber como ele era. Mas não demorou muito e a curiosidade delas foi satisfeita. Porque ele pediu para a irmã aceitar uma conversa em vídeo, perguntando se na nossa sala tinha webcam, ela me chamou porque não sabia o que era e o que fazer, eu respondi a ele que nos poderíamos aceitar a conversa em vídeo, mas ele não a viria porque a nossa STE  não tem webcam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Logo em seguida  enviou a mensagem para a conversa com vídeo, nos o aceitamos, ele apareceu na tela para surpresa de todas. Nossa! Foi uma festa! Ela ficou emocionada e pediu que chamasse a mãe que estuda a primeira fase da EJA. Nisso os colegas já estavam ao redor de  seu computador,  e analisado o seu irmão. Se, era parecido com ela, bonito, alto, moreno, careca, etc. Foi nessa algazarra que a mãe chegou, e também se emocionou.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odos ficaram muito entusiasmados com essa novidade, e disseram que iam comprar um computador, afim, de aprender melhor e fazer uso dessa tecnologia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Times New Roman"/>
              </a:rPr>
              <a:t>Conclusão</a:t>
            </a:r>
            <a:br>
              <a:rPr sz="3000"/>
            </a:b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Penso que o tempo foi curto, os alunos e a professora não tiveram tempo de se familiarizar com a máquina e aprimorar mais a escrita e a leitura. Mas perceberam uma outra maneira de escrever e se comunicar, da qual gostaram muito. E a professora percebeu a máquina como aliada na alfabetização, e disse que pretende de agora para frente fazer uso da mesma com muito mais freqüência. Então concluo que o objetivo principal foi alcançado; que era fazer com que o professor utilize e perceba os recursos tecnológicos a favor de sua prática pedagógica em busca da construção do conhecimento de seus educand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Recebi o convite para participar do projeto do MSN por intermédio da professora Doutorando </a:t>
            </a:r>
            <a:r>
              <a:rPr b="1" lang="en-US" sz="4000" spc="-1" strike="noStrike">
                <a:solidFill>
                  <a:srgbClr val="ffffcc"/>
                </a:solidFill>
                <a:latin typeface="Monotype Corsiva"/>
              </a:rPr>
              <a:t>Azenaide Abreu Soares Vieira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do NTE. Disse que a professora </a:t>
            </a:r>
            <a:r>
              <a:rPr b="1" lang="en-US" sz="4000" spc="-1" strike="noStrike">
                <a:solidFill>
                  <a:srgbClr val="ffffcc"/>
                </a:solidFill>
                <a:latin typeface="Monotype Corsiva"/>
              </a:rPr>
              <a:t>Gisele Maria Gomes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da STE da Escola Estadual Antonio Joaquim de Moura Andrade estava procurando uma escola parceira para desenvolver esse projeto e que a nossa escola seria a ideal, sugerindo que convidássemos a turma da 2ª fase da EJA para participar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A principio fiquei meia apreensiva pois já tinha elaborado um outro projeto junto com a professora de Literatura do Ensino Médio noturno, e já estava em desenvolvimento. Mas achei a idéia muito interessante e desafiadora.</a:t>
            </a:r>
            <a:br>
              <a:rPr sz="3000"/>
            </a:b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Conheço bem a realidade dos alunos da EJA, pois trabalhei mais de sete anos com eles, e sendo sabedora de suas dificuldades e necessidades, fui falar com a Professora regente </a:t>
            </a:r>
            <a:r>
              <a:rPr b="1" lang="pt-BR" sz="3000" spc="-1" strike="noStrike">
                <a:solidFill>
                  <a:srgbClr val="ffffcc"/>
                </a:solidFill>
                <a:latin typeface="Monotype Corsiva"/>
              </a:rPr>
              <a:t>Irani Bachiega de Oliveira,</a:t>
            </a: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 da 2ª fase da EJA. Fiz a explanação do projeto e disse o quanto poderia ser prazeroso para ela e seus alunos. A princípio ela achou que era um desafio muito grande, pelo fato dos alunos não conhecerem nada de informática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e ela muito pouco também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No dia seguinte a professora </a:t>
            </a:r>
            <a:r>
              <a:rPr b="1" lang="pt-BR" sz="2800" spc="-1" strike="noStrike">
                <a:solidFill>
                  <a:srgbClr val="ffffcc"/>
                </a:solidFill>
                <a:latin typeface="Times New Roman"/>
              </a:rPr>
              <a:t>Irani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me procurou e disse:</a:t>
            </a:r>
            <a:br>
              <a:rPr sz="2800"/>
            </a:b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__ Vou aceitar esse desafio!</a:t>
            </a:r>
            <a:br>
              <a:rPr sz="2800"/>
            </a:b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ntão expusemos o projeto aos alunos, que ficaram curiosos e alguns até mesmo ansiosos para começar a desenvolver o projeto.</a:t>
            </a:r>
            <a:br>
              <a:rPr sz="2800"/>
            </a:b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s reuniões entre nos professoras das STEs aconteceram pelo MSN, e um tanto atropeladas, pelo fato de acontecerem durante o atendimento de alunos e professores nas STEs. Houve um pouco de dificuldade em acertar o cronograma, porque a realidade das duas escolas se diferem em alguns pontos: a de Taquarussu inicia as aulas uma hora antes que a de Nova Andradina. E a escola Antonio Joaquim de Moura Andrade só poderia conversar a partir da segunda aula, devido ao atraso dos alunos. Outras dificuldades foram: a abertura dos MSN, números de alunos diferente e a hora da merenda que batia com a segunda aula dos alunos de Nova Andradin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24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Mas apesar dos problemas tivemos também muitas coisas boas. A primeira aconteceu quando eu convidei a professora e os alunos para conhecerem o funcionamento da máquina, e experimentarem a digitação. Ela e os alunos aceitaram imediatamente e participaram da experiência com muita dificuldade, mas com vontade. A professora </a:t>
            </a:r>
            <a:r>
              <a:rPr b="1" lang="pt-BR" sz="2800" spc="-1" strike="noStrike">
                <a:solidFill>
                  <a:srgbClr val="ffffcc"/>
                </a:solidFill>
                <a:latin typeface="Monotype Corsiva"/>
              </a:rPr>
              <a:t>Irani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 </a:t>
            </a:r>
            <a:r>
              <a:rPr b="1" lang="pt-BR" sz="2800" spc="-1" strike="noStrike">
                <a:solidFill>
                  <a:srgbClr val="ffffcc"/>
                </a:solidFill>
                <a:latin typeface="Monotype Corsiva"/>
              </a:rPr>
              <a:t>eu</a:t>
            </a:r>
            <a:r>
              <a:rPr b="1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tentamos ajudá-los, informando e ensinando o que continha no teclado e as suas funções. Expliquei que o teclado tem todos os recursos necessários para a escrita. Em seguida eles foram digitar o alfabeto; usando as letras, espaços, delete, linha,  etc. A maioria não conseguiu completar o alfabeto durante aquela aula. Eu e a</a:t>
            </a:r>
            <a:r>
              <a:rPr b="1" lang="pt-BR" sz="2800" spc="-1" strike="noStrike">
                <a:solidFill>
                  <a:srgbClr val="ffffcc"/>
                </a:solidFill>
                <a:latin typeface="Monotype Corsiva"/>
              </a:rPr>
              <a:t> Irani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ficamos exaustas do corre, corre, e apreensivas, pensando como seria a interação deles através do messeg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Na segunda aula, abrimos o editor de texto e pedimos para eles escreverem novamente o alfabeto, e quando terminassem para que escrevessem seus nomes e de seus familiares. Orientamos o uso da letra maiúscula no inicio de nomes próprios e no inicio de frases, e nas demais, letras minúscula. O espaço entre as palavras, acentuação, pontuação, mudar de linha e o tamanho da letra. Alguns não conseguiram escrever completo o seu próprio nome, porque ainda não estão alfabetizados totalmente. Mas mesmo assim tentaram o tempo todo e demonstraram uma grande satisfação em manusear a máquina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Durante o final de semana abri alguns e-mail, devido ao fato da página só aceitar a abertura de dois MSN por dia.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Na outra aula já fui abrindo o restante dos e-mail, junto com eles, e aqueles que já estavam mais familiarizados com a máquina, a escrita e leitura eu enviei a lista para a professora </a:t>
            </a:r>
            <a:r>
              <a:rPr b="1" lang="en-US" sz="3000" spc="-1" strike="noStrike">
                <a:solidFill>
                  <a:srgbClr val="ffffcc"/>
                </a:solidFill>
                <a:latin typeface="Monotype Corsiva"/>
              </a:rPr>
              <a:t>Gisel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de Nova Andradina, onde os alunos dela foram adicionando-os. Ensinei os nossos alunos como aceitar os colegas para conversar. Nesse mesmo dia duas alunas já começaram a falar com alunos da Escola Estadual Antonio Joaquim de Moura Andrade, os demais começaram a sentir vontade de conversar também, mas ainda estavam receosos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ó que uma das alunas que estava conversando ficou tão entusiasmada que contagiou os demais, com exceção de um aluno que recusou a falar no MSN e ficou digitando textos. E ainda disse que se for para ele conversar no MSN ele sairia da escola. Eu e a professora procuramos tranqüilizá-lo quanto a isso, dizendo que ele só falaria se sentisse vontade. Em compensação os demais mesmo sem conseguir ter um bom diálogo por dificuldades de escrita, leitura e lidar com a própria máquina, fazia questão de conversar. Quando dava o sinal do final da aula eles ficavam surpresos por ter passado tão rápido o temp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Não conseguimos escolher temas como estava previsto no projeto, pois tudo foi tão rápido e trabalhoso que, conforme a professora da STE de Nova Andradina foi adicionando alunos de Taquarussu, eles já iam aceitando e sendo chamados a conversar pelo MSN com vários alunos ao mesmo tempo, </a:t>
            </a:r>
            <a:r>
              <a:rPr b="1" lang="pt-BR" sz="3000" spc="-1" strike="noStrike">
                <a:solidFill>
                  <a:srgbClr val="ffffcc"/>
                </a:solidFill>
                <a:latin typeface="Monotype Corsiva"/>
              </a:rPr>
              <a:t>eu</a:t>
            </a: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 e a professora </a:t>
            </a:r>
            <a:r>
              <a:rPr b="1" lang="pt-BR" sz="3000" spc="-1" strike="noStrike">
                <a:solidFill>
                  <a:srgbClr val="ffffcc"/>
                </a:solidFill>
                <a:latin typeface="Monotype Corsiva"/>
              </a:rPr>
              <a:t>Irani </a:t>
            </a: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nos desdobramos de um lado para o outro ajudando-os a abrir as caixas de diálogos e responde-las. Que também nem víamos a hora passar, só quando batia o sinal para encerrar as aulas. Os alunos que estavam conversado mesmo depois que batia o sinal, queria ficar conversando, e ficavam se sobrassem máquinas, saindo só na quinta aula e demonstrando uma empolgação surpreendente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2:07:08Z</dcterms:created>
  <dc:creator>Windows XP</dc:creator>
  <dc:description/>
  <dc:language>en-US</dc:language>
  <cp:lastModifiedBy>HP</cp:lastModifiedBy>
  <dcterms:modified xsi:type="dcterms:W3CDTF">2009-07-24T16:45:44Z</dcterms:modified>
  <cp:revision>21</cp:revision>
  <dc:subject/>
  <dc:title>ESCOLA ESTADUAL DR. MARTINHO MARQUES   Relatório do Projeto: MSN COMO FERRAMENTA DE ESCRITA E LEITURA</dc:title>
</cp:coreProperties>
</file>